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5EA-A055-45B6-8392-2EDF29A8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91B-50AA-42F6-957B-9C57608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D63-2636-4E37-91A3-AEF2ECC3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7B4-88AC-4FAF-97B0-62312BAF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5747-3E42-4D7E-9287-65828C6B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08D-E9A0-4331-B59C-602E9FC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E73F-A4E2-40F3-928E-FEA831A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E77-A121-4210-8775-628B3A9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623-F8CA-4456-B36D-912FAD3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5FD-1C89-4A44-8453-BC445267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FD0-71A1-4E9F-86FB-FD3704C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4F9-498E-44F2-8337-D1BA7FA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CC97-41F2-443F-B691-8F85DA5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5B28-69D8-43E1-BAED-6CB20C3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61A-1142-45FD-88C5-410C1089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B460-D19D-4D34-9EAD-A8D871D8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65AF-3745-4701-8AFB-001B7508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C57C-6DA5-4673-99C2-3169FACB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2AC8-2E21-4CC9-942F-3052485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75B6-E2E2-40F8-B289-0D7DB36E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F246-ED43-4B04-B686-B74134C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F27D-D5D9-4D9E-AFD9-CB0A3CF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E12-CF91-4C89-8C42-756F673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09F3-0601-488F-AA53-11D7398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C633-B0FB-4193-8A64-E78059D7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B4DD-6138-44FD-AA64-A20AAC8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CB4E-AC4C-482F-9F7A-CA46BFD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9805-6230-487C-8FB7-A46321A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53E1-1E1E-41CA-A23F-C4EFA000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75D6-289E-4E45-B578-D28D1027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AAB9-6527-455F-B544-3C0623F0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3FBB-3951-4865-BCB6-508FF606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E9A1-F05D-4AEA-9F7E-373FFA3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054-AB96-4AF8-95A2-A422F86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2BA8-A6DD-4D96-9E27-A1334C9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E7A6-D0E2-4DCC-86A2-A950E2D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B4FE-DB19-4D9F-B72E-BA9B96C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49C1-46FB-4B6F-9999-3E9141D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13C0-A9CE-491C-9373-DD0C416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6998-1765-4009-910D-8279AD2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3552-C2F8-4271-908A-DDCFA3C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A51F-9892-4112-B6E9-76EB9646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1E89-2EED-4CF7-82E4-E13E723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C0B7-6E2A-453E-8A7F-1B7CF7DE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A19-1808-42CA-96AD-7B8D2BE5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8C61-A300-447F-80B9-EBC764E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029B-63CE-48E0-9102-71421D8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CD46-B830-44E8-9039-83917BF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BBCA-85D5-40A7-9998-4EDE327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506A-5DD9-4E21-8FDB-82CF58E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E6E1-C1EB-446D-9F4E-4273F73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AB5F-4EA8-45B8-B3A6-3A178FB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8A76-69FB-41E1-89F5-04DB97A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1DF5-72CD-49AB-AFDD-56EEB24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D7B3-E35C-4A7B-BA30-28F9A424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DEE-B3C5-4357-ACAF-E4466BA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8742-DE23-4B5A-9C62-AF65A604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FEE5E-D2FD-40FC-99B5-B1938F41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E71E-8A47-4AE2-AF63-A58CDB3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98F0-942F-463B-A1C6-D333B04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EA86-9721-42F4-A313-F959FC9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A265E-7817-43D3-8A9B-E45F480F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4B8C-7131-4F51-B84C-D3C774E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F3B9-FCBE-429D-8A58-CD94A6B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307D-3AEB-4CCF-B072-5165A40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B504-84B1-4EC8-905F-54D3DC9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122-B4D1-4034-8B27-49AE37E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811B0-9AF7-49B6-9B3F-17957A4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A9CE-C4A3-4E79-9699-186886B1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4327-90F1-4868-97EE-111BDFCC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B341-D969-4456-B98F-F9638DAC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FB17-894F-4A48-B0EC-41877683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30FFE-63E1-4292-9CF1-4336C08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6032-0B02-40FA-8620-FF611F77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E702-F758-403D-AC5B-716362B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A1AE-40EC-4B25-B083-DB87466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D416B-4840-4EE0-8F1F-D903D82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E34-C192-430F-ABCA-52EA773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967D-542E-4498-BCD3-4F58FE4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85D48-35EE-461E-B2EE-292D9C5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CEE06-05D7-4CB2-A62E-AE28624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F85DD-BBE1-4C34-AD74-3585CF69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A03E5-A155-456E-BB67-B8F54376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FDFDA-840A-4658-AD12-EE482DA5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F2E0-D773-47D8-9BC1-6EB0721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5B603-A78D-45D1-86D4-918DBA8C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83E7-E544-46CE-98C1-0D04356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E25B-4FF1-4AE3-A59D-D915F581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9F9-0246-405E-90E4-EDFFFC2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F1356-2ACC-4092-9301-42BC2B5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470E-B1E2-41D8-851C-C17747D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A34F-B6AA-41DB-983C-83D1885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B74B-5480-4EE5-A026-4599E21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2E1B9-58D3-44B0-8992-860ACF3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6B95-A46C-4439-944D-CED384E8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A98CF-51DE-4D18-B150-15035B65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BCF-3560-4082-AD6D-A43D450BCB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AA06-1CB2-4608-B045-2CCE9D16DB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BA4-487D-4C80-B3BA-7672F0210E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249-FC17-4A76-939A-2F5A26B739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C54C-6402-4980-9A4D-05A42DB2DB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05F-BD22-44AF-AD2F-C4F07768AD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C91-BB72-4868-9031-10DC46BF6F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A60-DE92-432A-B1C3-083563B6F3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: ученик 7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Останин Александр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352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пользование глиссирования, катамаранной конструкции, подводных крыльев позволили парусникам достичь скоростей, существенно превышающих скорость ветра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Рисунок 3" descr="AAMWN41.jpg"/>
          <p:cNvPicPr/>
          <p:nvPr/>
        </p:nvPicPr>
        <p:blipFill>
          <a:blip r:embed="rId1"/>
          <a:stretch/>
        </p:blipFill>
        <p:spPr>
          <a:xfrm>
            <a:off x="1828800" y="152280"/>
            <a:ext cx="5448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dic.academic.ru/dic.nsf/enc3p/8711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chernomor.su/tech/catamaran-bistree-vetra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glossary.r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ru.wikipedia.or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5200" indent="-457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ЕТЕР - движение воздуха относительно земной поверхности, вызванное неравномерным распределением атмосферного давления и направленное от высокого давления к низком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етер характеризуется скоростью и направлением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ловек всегда совершенствовал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 он решил догнать и даже перегнать вете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ин из способов, который придумал человек, - это парусни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усник обгоняет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тер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давних времен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лались попыт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еличить скорос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усных судов, н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течение тысячелет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а оставалась ниж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и движущег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тра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largef_10-img1b_0.jpg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Ученые интуитивно полагали, что скорость ветра не является порогом для парусных судов. Практика буерного спорта показала, что при малом сопротивлении парусные наземные средства могут не только достигать, но и превышать скорость ветра.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лавный рычаг для резкого увеличения скорости — повышение гидродинамического качества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мплексное гидродинамическое качество судна может быть увеличено в результате повышения «вертикального качества» при неизменном значении водоизмещения - это возможно только за счет уменьшения сопротивления, а также за счет увеличения фактора остойчивости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00ff"/>
                </a:solidFill>
                <a:latin typeface="Lucida Sans Unicode"/>
              </a:rPr>
              <a:t>Глисс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это движение по воде, при котором предмет удерживается на поверхности только за счет скоростного напора воды, то есть он скользит по водной глади;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ногокорпусные конструк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водные крылья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JWAFN5CAP4WJ11CAJGTTHYCABOXW7ECAPYPQCVCA1N9BLECAXNSP5ICAGY1ZB6CAY7D4X7CA0TW3HTCA0E6S9TCA23DLAECAWJVS6VCAOAAG20CAZQ8FL7CAXQU7U0CABN0Z97CATSKMRUCAM1W86KCAQQ00Y6.jpg"/>
          <p:cNvPicPr/>
          <p:nvPr/>
        </p:nvPicPr>
        <p:blipFill>
          <a:blip r:embed="rId2"/>
          <a:stretch/>
        </p:blipFill>
        <p:spPr>
          <a:xfrm>
            <a:off x="6324480" y="3200400"/>
            <a:ext cx="2167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ногокорпусные конструк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нижение высоты парус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клон парусов или крыльев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ение подводных антикреновых крыльев и т. п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пособность судна противостоять внешним силам, вызывающим его крен или дифферент, и возвращаться в первоначальное положение равновесия после прекращения их действия.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1</cp:lastModifiedBy>
  <dcterms:modified xsi:type="dcterms:W3CDTF">2010-05-22T04:31:4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